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E4F-2337-471A-874C-543CB653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645-6930-4046-B683-31CD7A8A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1C1-D7C6-4994-86C9-67FF75EB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D1C-C727-4642-8124-6837C515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54D-2846-400A-9314-F7BAEDC9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4D2-B66A-40BB-876D-F8D4F31F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D07-35EC-4CAE-B306-09FA78DB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8E8-F406-4710-8B82-30B75758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8D5-E686-4FCC-812C-E2778B80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170-D502-4702-81B3-8C8FF4E0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55A-8917-4524-8254-7D2E4C6A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165-95E8-4933-AD0C-E607A1DF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1226-654B-4C5F-80DE-262CC43E70A7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08360" y="234936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Working group on “future developments” (WGT)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1413000"/>
            <a:ext cx="4527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SSN Workshop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Lisbon 11-12 June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60760" y="47973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Lisbon, 12</a:t>
            </a:r>
            <a:r>
              <a:rPr b="1" lang="en-US" sz="1600" spc="-1" strike="noStrike" baseline="30000">
                <a:solidFill>
                  <a:srgbClr val="002b71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4EC-D339-4512-B0BA-E8FFBFA710A4}" type="slidenum">
              <a:t>1</a:t>
            </a:fld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197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916280"/>
            <a:ext cx="74901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is presentation introduces the outcomes of the two working group on future development (WGT) meet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WGT1 (The Hague-18 February 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WGT2 (Lisbon-14 May 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C20-2C35-491C-9C58-29BEF4F8F501}" type="slidenum">
              <a:t>2</a:t>
            </a:fld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95640" y="0"/>
            <a:ext cx="73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WGT1 outcomes - The Hague-18 February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1916280"/>
            <a:ext cx="749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19700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b71"/>
                </a:solidFill>
                <a:latin typeface="Verdana"/>
              </a:rPr>
              <a:t>EMSA proposal</a:t>
            </a:r>
            <a:r>
              <a:rPr b="0" lang="fr-FR" sz="2400" spc="-1" strike="noStrike">
                <a:solidFill>
                  <a:srgbClr val="002b71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b71"/>
                </a:solidFill>
                <a:latin typeface="Verdana"/>
              </a:rPr>
              <a:t>3 messages (72h, Arrival, Depar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b71"/>
                </a:solidFill>
                <a:latin typeface="Verdana"/>
              </a:rPr>
              <a:t>The use of new attributes/elements (ShipCallID, Update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AF2-4CBB-4679-ACA0-1351422AE974}" type="slidenum">
              <a:t>3</a:t>
            </a:fld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95640" y="0"/>
            <a:ext cx="73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WGT1 outcomes - The Hague-18 February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1916280"/>
            <a:ext cx="749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052640"/>
            <a:ext cx="88930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b71"/>
                </a:solidFill>
                <a:latin typeface="Verdana"/>
              </a:rPr>
              <a:t>The outcomes</a:t>
            </a:r>
            <a:r>
              <a:rPr b="0" lang="fr-FR" sz="2400" spc="-1" strike="noStrike">
                <a:solidFill>
                  <a:srgbClr val="002b71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Time-fra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-integration of the THETIS related information is the first priorit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-objective to adopt the new specifications at SSN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Link&amp;Upd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b71"/>
                </a:solidFill>
                <a:latin typeface="Verdana"/>
              </a:rPr>
              <a:t>The value of grouping/updating notification was recognized with t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- using the “</a:t>
            </a:r>
            <a:r>
              <a:rPr b="1" lang="en-GB" sz="2400" spc="-1" strike="noStrike">
                <a:solidFill>
                  <a:srgbClr val="002b71"/>
                </a:solidFill>
                <a:latin typeface="Verdana"/>
              </a:rPr>
              <a:t>ShipCallID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”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- using the “</a:t>
            </a:r>
            <a:r>
              <a:rPr b="1" lang="en-GB" sz="2400" spc="-1" strike="noStrike">
                <a:solidFill>
                  <a:srgbClr val="002b71"/>
                </a:solidFill>
                <a:latin typeface="Verdana"/>
              </a:rPr>
              <a:t>NotificationStatus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” element for the 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“new”, “update” and “delete” functiona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37B-599F-4583-A996-08CB4B1C0C38}" type="slidenum">
              <a:t>4</a:t>
            </a:fld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79640" y="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WGT1 outcomes - The Hague-18 February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1916280"/>
            <a:ext cx="749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20880"/>
            <a:ext cx="842472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b71"/>
                </a:solidFill>
                <a:latin typeface="Verdana"/>
              </a:rPr>
              <a:t>The outcomes (continuing)</a:t>
            </a:r>
            <a:r>
              <a:rPr b="0" lang="fr-FR" sz="2400" spc="-1" strike="noStrike">
                <a:solidFill>
                  <a:srgbClr val="002b71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Several messa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No common agre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Proposal for a superset of the 24h prior 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Merge the HAZMAT with the Pre-Arrival, Arrival     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and Depa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2b71"/>
                </a:solidFill>
                <a:latin typeface="Verdana"/>
              </a:rPr>
              <a:t>The idea is supported by th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58C-8ED2-474D-BEEA-E1033AC0D0D1}" type="slidenum">
              <a:t>5</a:t>
            </a:fld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79640" y="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WGT1 outcomes - The Hague-18 February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916280"/>
            <a:ext cx="749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20880"/>
            <a:ext cx="842472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b71"/>
                </a:solidFill>
                <a:latin typeface="Verdana"/>
              </a:rPr>
              <a:t>The outcomes (continuing)</a:t>
            </a:r>
            <a:r>
              <a:rPr b="0" lang="fr-FR" sz="2400" spc="-1" strike="noStrike">
                <a:solidFill>
                  <a:srgbClr val="002b71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Oth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EMSA invited to present at SSN 11 the optimal way (best practices) of developments at nat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The participants suggested adding more explanations and examples in the “description” column of the XML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Participants were explicitly invited by EMSA to share their proposals in writing for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C7A-A4B8-4FD4-9CF2-0B9AC710E584}" type="slidenum">
              <a:t>6</a:t>
            </a:fld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11280" y="260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WGT2 outcomes - Lisbon 14 May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1916280"/>
            <a:ext cx="749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052640"/>
            <a:ext cx="7848720" cy="51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b71"/>
                </a:solidFill>
                <a:latin typeface="Verdana"/>
              </a:rPr>
              <a:t>The main out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New structure for the XML RefGuide agreed by WGT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Definition table (Annex B of the XML Ref Gu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Overview (Description)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Business rules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Notification PortPlus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proposed </a:t>
            </a: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merged message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 (72h, 24h, arrival, departure, Hazmat EU departure and Hazmat non EU departure) with ShipCallID and UpdateStatus process - The WGT2 agreed on the proposed mechanism with the exception of Germa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1D4-F1F2-4DCB-9836-E25BE23A0212}" type="slidenum">
              <a:t>7</a:t>
            </a:fld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11280" y="260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WGT2 outcomes - Lisbon 14 May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1916280"/>
            <a:ext cx="749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052640"/>
            <a:ext cx="7848720" cy="43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b71"/>
                </a:solidFill>
                <a:latin typeface="Verdana"/>
              </a:rPr>
              <a:t>The main out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Request/Response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a new mechanism based on a global querying system using attributes (GetDetails) - The WGT2 agreed on the con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EMSA to better clarify the business rules (</a:t>
            </a:r>
            <a:r>
              <a:rPr b="0" i="1" lang="en-GB" sz="2400" spc="-1" strike="noStrike">
                <a:solidFill>
                  <a:srgbClr val="002b71"/>
                </a:solidFill>
                <a:latin typeface="Verdana"/>
              </a:rPr>
              <a:t>UpdateStatus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 attribut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b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256-A8A6-438E-863F-3A4D9E3949F4}" type="slidenum">
              <a:t>8</a:t>
            </a:fld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1:39:15Z</dcterms:created>
  <dc:creator>lopezin</dc:creator>
  <dc:description/>
  <dc:language>en-US</dc:language>
  <cp:lastModifiedBy>lemoaya</cp:lastModifiedBy>
  <cp:lastPrinted>2004-03-26T09:05:49Z</cp:lastPrinted>
  <dcterms:modified xsi:type="dcterms:W3CDTF">2009-06-09T13:44:20Z</dcterms:modified>
  <cp:revision>108</cp:revision>
  <dc:subject/>
  <dc:title>Slide 1</dc:title>
</cp:coreProperties>
</file>